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2FEFA-A6C8-4785-857E-91690A6E2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3028-D693-4B36-A139-F26D0B1B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FC78C-695B-4E9F-8417-678A07ABB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F2726-0032-439C-AD7B-ADA72D512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791F7-8706-4156-93C0-E7338D6E9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B8A5F-9B24-4AB7-82CD-27468B658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7C01-2C35-443C-9D68-E83EC9901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B9042-7D59-4F34-B9F3-272CC61F0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DB1A-AEE5-4643-B461-5499D02F6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39443-E86E-4B24-8E6A-465AE489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7C82-CE90-4B7E-B128-6EA02BECA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8903-BCD0-48F7-A7C0-EC20BFCCF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16A6-8963-40E9-8D35-0B205A7C892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unity‘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8T12:46:05Z</dcterms:modified>
  <cp:revision>103</cp:revision>
  <dc:subject/>
  <dc:title>Titel</dc:title>
</cp:coreProperties>
</file>